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DCB-5C47-442A-8A1F-7C2FF38A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5F6-DA36-4965-B924-36FFB371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D7C-B889-4034-9D66-687D9166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025-8A4F-4710-AA66-30B16949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708-6215-4B92-9C8A-155CD481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362-D46E-4719-A6ED-2082975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076-F0C7-4FED-9DF5-78397D5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F11-12B8-4963-93B2-AEDDBE52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41F-256D-4BCD-9F8D-04CCF6A5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9EB-E3E7-4B61-A23A-741E327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D22-F896-46CE-B6B8-7FF7F87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B9B-37E4-48B3-92D9-E9B4C3F1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3AD1-0C78-4665-AB4A-52ACF592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ffect of Mass on Ballistics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rik V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icture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3334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52680" y="46483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248520" y="32004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657600" y="1219320"/>
            <a:ext cx="2260440" cy="169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705720" y="48006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733920" y="29718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Bibliography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ed out of the same gun, using the same amount of force, is a projectile of a larger mass more likely to be more lethal or cl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Hypothesi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predict an increase in mass will also greatly increase kill percentag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isy Powerline 880s Dual Ammo Air Rif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listics gelatin (homemade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munition as listed in resul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s #9 Solvent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Compress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e meas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r and shooting st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o Nighthaw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asure Shooting Distance (25 ft.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 up shooting rig at dist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ean air gu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y out projectiles for test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st each projectile (on same piece of gel) with Daisy and Gamo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ther 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Heavy"/>
              </a:rPr>
              <a:t>Results and Conclusion</a:t>
            </a:r>
            <a:endParaRPr b="0" lang="en-US" sz="5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19320"/>
            <a:ext cx="7925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concluded that the projectile with the larger mass effected a greater area but did not penetrate as deep. I personally would take more surface area over deeper penetration ba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Result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my shooting ability and gun because shooting a pellet with a larger mass automatically increases the size of your kill zone. If I had a more reliable shot it might be an intelligent thought to try a projectile that would penetrate dee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35:06Z</dcterms:created>
  <dc:creator>Sterling Grade School</dc:creator>
  <dc:description/>
  <dc:language>en-US</dc:language>
  <cp:lastModifiedBy>USD376</cp:lastModifiedBy>
  <dcterms:modified xsi:type="dcterms:W3CDTF">2012-03-18T20:37:57Z</dcterms:modified>
  <cp:revision>6</cp:revision>
  <dc:subject/>
  <dc:title>Title</dc:title>
</cp:coreProperties>
</file>